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type.wav" ContentType="audio/x-wav"/>
  <Override PartName="/ppt/media/image1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motor.wav" ContentType="audio/x-wav"/>
  <Override PartName="/ppt/media/image15.png" ContentType="image/png"/>
  <Override PartName="/ppt/media/image14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277A-28BA-473E-8FE5-6CB202D95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676260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93680" y="4209120"/>
            <a:ext cx="676260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3AF2-B13F-41F6-A01B-2DEED913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59040" y="220968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93680" y="420912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59040" y="420912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532C-3F55-4406-A149-67220F1DF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21772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80040" y="2209680"/>
            <a:ext cx="21772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6760" y="2209680"/>
            <a:ext cx="21772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93680" y="4209120"/>
            <a:ext cx="21772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80040" y="4209120"/>
            <a:ext cx="21772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6760" y="4209120"/>
            <a:ext cx="21772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55A2-FF05-41EC-8794-01DEF951B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B7DB-040B-45E2-AFB8-217FBA8C8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77C2-26D3-46EB-B678-0A79ADAD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18A8-B3E1-460D-9306-7519374B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330012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59040" y="2209680"/>
            <a:ext cx="330012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CC9F-6018-4522-855A-C24F551C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778D-8B90-4BBC-A875-EF21F4EF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93680" y="838080"/>
            <a:ext cx="676260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CBB8-EA16-440C-9192-AC4A8014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59040" y="2209680"/>
            <a:ext cx="330012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93680" y="420912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A9E4-8898-48BF-8BAF-030B7840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290F-2605-40F8-BEC0-F0B6F1B8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330012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59040" y="220968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59040" y="420912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2F65-B41B-4C8D-A78B-4DBB12D7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9040" y="220968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93680" y="4209120"/>
            <a:ext cx="676260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B970-7B69-40C3-91FB-F66FB769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676260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93680" y="4209120"/>
            <a:ext cx="676260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7CE7-92D6-4250-82F9-CA6EE6D3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59040" y="220968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93680" y="420912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59040" y="420912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4F13-A0A0-4B58-8E6E-3FD81819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21772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80040" y="2209680"/>
            <a:ext cx="21772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66760" y="2209680"/>
            <a:ext cx="21772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93680" y="4209120"/>
            <a:ext cx="21772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80040" y="4209120"/>
            <a:ext cx="21772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66760" y="4209120"/>
            <a:ext cx="21772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D675-948B-407C-9BEB-873B78EAA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4DA2-9E4F-44AD-9C27-EF0F6A2F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330012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59040" y="2209680"/>
            <a:ext cx="330012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3AB6-2024-4B74-8A13-93450F2F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9DB0-2A1E-44B2-B27C-BB6A8355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93680" y="838080"/>
            <a:ext cx="676260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20C1-0CCE-45C7-AD24-2594E080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59040" y="2209680"/>
            <a:ext cx="330012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93680" y="420912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6890-3556-4558-A31A-D1786C5C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330012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9040" y="220968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59040" y="420912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5D66-4FF5-42B0-B5C9-15FB23B7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9040" y="220968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93680" y="4209120"/>
            <a:ext cx="676260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85AC-A5E4-4A1A-91A2-83CA44DA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DCB1-27B4-4D20-A0BE-C2E24E514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0611-8D87-4020-A95D-C51AE8728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motor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file:///This%20PowerPoint%20was%20downloaded%20from%20http:/tabstart.com/directory/education/i-and-me-grammar-lesson-1419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2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I or Me?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55960"/>
            <a:ext cx="640080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ing I or 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dontknow"/>
          <p:cNvPicPr/>
          <p:nvPr/>
        </p:nvPicPr>
        <p:blipFill>
          <a:blip r:embed="rId1"/>
          <a:stretch/>
        </p:blipFill>
        <p:spPr>
          <a:xfrm>
            <a:off x="3276720" y="4648320"/>
            <a:ext cx="2190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t beside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Terry and m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boys"/>
          <p:cNvPicPr/>
          <p:nvPr/>
        </p:nvPicPr>
        <p:blipFill>
          <a:blip r:embed="rId1"/>
          <a:stretch/>
        </p:blipFill>
        <p:spPr>
          <a:xfrm>
            <a:off x="4114800" y="2743200"/>
            <a:ext cx="27097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93680" y="1714320"/>
            <a:ext cx="6762600" cy="10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 when do you use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I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with the other person’s nam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attentive"/>
          <p:cNvPicPr/>
          <p:nvPr/>
        </p:nvPicPr>
        <p:blipFill>
          <a:blip r:embed="rId1"/>
          <a:stretch/>
        </p:blipFill>
        <p:spPr>
          <a:xfrm>
            <a:off x="3691080" y="3421080"/>
            <a:ext cx="324324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68580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4800" spc="-1" strike="noStrike">
                <a:solidFill>
                  <a:srgbClr val="cc0000"/>
                </a:solidFill>
                <a:latin typeface="Arial"/>
              </a:rPr>
              <a:t>And Trick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133360" y="259092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ver the word “</a:t>
            </a: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an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” plus the other person’s name.  Read the sentence and listen for the correct pronou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magic"/>
          <p:cNvPicPr/>
          <p:nvPr/>
        </p:nvPicPr>
        <p:blipFill>
          <a:blip r:embed="rId1"/>
          <a:stretch/>
        </p:blipFill>
        <p:spPr>
          <a:xfrm>
            <a:off x="6781680" y="0"/>
            <a:ext cx="18608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And Trick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01760" y="2496960"/>
            <a:ext cx="784224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bert and I walked hom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676520" y="2438280"/>
            <a:ext cx="28191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6" descr="kids6"/>
          <p:cNvPicPr/>
          <p:nvPr/>
        </p:nvPicPr>
        <p:blipFill>
          <a:blip r:embed="rId1"/>
          <a:stretch/>
        </p:blipFill>
        <p:spPr>
          <a:xfrm>
            <a:off x="3962520" y="3733920"/>
            <a:ext cx="23619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And Trick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573280"/>
            <a:ext cx="838224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ive the paper to Steve and m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5486400" y="2514600"/>
            <a:ext cx="25909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5" descr="copypaper_color"/>
          <p:cNvPicPr/>
          <p:nvPr/>
        </p:nvPicPr>
        <p:blipFill>
          <a:blip r:embed="rId1"/>
          <a:stretch/>
        </p:blipFill>
        <p:spPr>
          <a:xfrm>
            <a:off x="2057400" y="3314880"/>
            <a:ext cx="523872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You try it!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d the sentence that correctly uses I and me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eager"/>
          <p:cNvPicPr/>
          <p:nvPr/>
        </p:nvPicPr>
        <p:blipFill>
          <a:blip r:embed="rId1"/>
          <a:stretch/>
        </p:blipFill>
        <p:spPr>
          <a:xfrm>
            <a:off x="3962520" y="3505320"/>
            <a:ext cx="29685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sentence is correct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753732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ke and I worked for hour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ke and me worked for hour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600200" y="2209680"/>
            <a:ext cx="2057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1600200" y="2895480"/>
            <a:ext cx="2057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6" descr="comptrkids"/>
          <p:cNvPicPr/>
          <p:nvPr/>
        </p:nvPicPr>
        <p:blipFill>
          <a:blip r:embed="rId1"/>
          <a:stretch/>
        </p:blipFill>
        <p:spPr>
          <a:xfrm>
            <a:off x="3352680" y="3581280"/>
            <a:ext cx="365760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sentence is correct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753732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b and I rode the bu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b and me rode the bu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676520" y="2209680"/>
            <a:ext cx="18288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1676520" y="2895480"/>
            <a:ext cx="18288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6" descr="bus-catch"/>
          <p:cNvPicPr/>
          <p:nvPr/>
        </p:nvPicPr>
        <p:blipFill>
          <a:blip r:embed="rId1"/>
          <a:stretch/>
        </p:blipFill>
        <p:spPr>
          <a:xfrm>
            <a:off x="3733920" y="3809880"/>
            <a:ext cx="26668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o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sentence is correct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753732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lp Gary and me paint thi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lp Gary and I paint thi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2743200" y="2209680"/>
            <a:ext cx="2057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2743200" y="2971800"/>
            <a:ext cx="20574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6" descr="Artwork"/>
          <p:cNvPicPr/>
          <p:nvPr/>
        </p:nvPicPr>
        <p:blipFill>
          <a:blip r:embed="rId1"/>
          <a:stretch/>
        </p:blipFill>
        <p:spPr>
          <a:xfrm>
            <a:off x="3733920" y="3276720"/>
            <a:ext cx="31622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sentence is correct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753732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e sits behind Sue and I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e sits behind Sue and m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5181480" y="2209680"/>
            <a:ext cx="18288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5181480" y="2895480"/>
            <a:ext cx="18288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6" descr="i-know"/>
          <p:cNvPicPr/>
          <p:nvPr/>
        </p:nvPicPr>
        <p:blipFill>
          <a:blip r:embed="rId1"/>
          <a:stretch/>
        </p:blipFill>
        <p:spPr>
          <a:xfrm>
            <a:off x="3429000" y="3886200"/>
            <a:ext cx="25812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3047760"/>
            <a:ext cx="6762600" cy="10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n you write about yourself, you use the pronouns I or me.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announcing"/>
          <p:cNvPicPr/>
          <p:nvPr/>
        </p:nvPicPr>
        <p:blipFill>
          <a:blip r:embed="rId1"/>
          <a:stretch/>
        </p:blipFill>
        <p:spPr>
          <a:xfrm>
            <a:off x="6781680" y="952560"/>
            <a:ext cx="18576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sentence is correct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753732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eryone looked at Hal and I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eryone looked at Hal and m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6019920" y="2209680"/>
            <a:ext cx="167616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6019920" y="2895480"/>
            <a:ext cx="167616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6" descr="boys"/>
          <p:cNvPicPr/>
          <p:nvPr/>
        </p:nvPicPr>
        <p:blipFill>
          <a:blip r:embed="rId1"/>
          <a:stretch/>
        </p:blipFill>
        <p:spPr>
          <a:xfrm>
            <a:off x="3886200" y="4038480"/>
            <a:ext cx="22669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sentence correctly uses I or m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792468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her and I love ice cream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her and me love ice cream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cone-strawberry"/>
          <p:cNvPicPr/>
          <p:nvPr/>
        </p:nvPicPr>
        <p:blipFill>
          <a:blip r:embed="rId1"/>
          <a:stretch/>
        </p:blipFill>
        <p:spPr>
          <a:xfrm>
            <a:off x="3733920" y="3457440"/>
            <a:ext cx="230508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sentence correctly uses I or m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792468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her and I love ice cream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her and me love ice cream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cone-strawberry"/>
          <p:cNvPicPr/>
          <p:nvPr/>
        </p:nvPicPr>
        <p:blipFill>
          <a:blip r:embed="rId1"/>
          <a:stretch/>
        </p:blipFill>
        <p:spPr>
          <a:xfrm>
            <a:off x="3733920" y="3457440"/>
            <a:ext cx="2305080" cy="34005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5"/>
          <p:cNvSpPr/>
          <p:nvPr/>
        </p:nvSpPr>
        <p:spPr>
          <a:xfrm>
            <a:off x="1523880" y="2057400"/>
            <a:ext cx="26672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1523880" y="2819520"/>
            <a:ext cx="26672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sentence correctly uses I or m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792468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50021"/>
              </a:buClr>
              <a:buSzPct val="2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her and I love ice cream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cone-strawberry"/>
          <p:cNvPicPr/>
          <p:nvPr/>
        </p:nvPicPr>
        <p:blipFill>
          <a:blip r:embed="rId1"/>
          <a:stretch/>
        </p:blipFill>
        <p:spPr>
          <a:xfrm>
            <a:off x="3733920" y="3457440"/>
            <a:ext cx="230508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sentence correctly uses I or m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 one wanted help from Ted and I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 one wanted help from Ted and m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contacts"/>
          <p:cNvPicPr/>
          <p:nvPr/>
        </p:nvPicPr>
        <p:blipFill>
          <a:blip r:embed="rId1"/>
          <a:stretch/>
        </p:blipFill>
        <p:spPr>
          <a:xfrm>
            <a:off x="4114800" y="4038480"/>
            <a:ext cx="2627280" cy="26672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5"/>
          <p:cNvSpPr/>
          <p:nvPr/>
        </p:nvSpPr>
        <p:spPr>
          <a:xfrm>
            <a:off x="6934320" y="2133720"/>
            <a:ext cx="1828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6934320" y="3352680"/>
            <a:ext cx="1828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ich sentence correctly uses I or me?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50021"/>
              </a:buClr>
              <a:buSzPct val="2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 one wanted help from Ted and m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contacts"/>
          <p:cNvPicPr/>
          <p:nvPr/>
        </p:nvPicPr>
        <p:blipFill>
          <a:blip r:embed="rId1"/>
          <a:stretch/>
        </p:blipFill>
        <p:spPr>
          <a:xfrm>
            <a:off x="4114800" y="4038480"/>
            <a:ext cx="26272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sentence correctly uses I or m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792468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fter Kathy and I finished, we put our books away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fter Kathy and me finished, we put our books away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boyteach"/>
          <p:cNvPicPr/>
          <p:nvPr/>
        </p:nvPicPr>
        <p:blipFill>
          <a:blip r:embed="rId1"/>
          <a:stretch/>
        </p:blipFill>
        <p:spPr>
          <a:xfrm>
            <a:off x="3657600" y="4524480"/>
            <a:ext cx="2752560" cy="24098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5"/>
          <p:cNvSpPr/>
          <p:nvPr/>
        </p:nvSpPr>
        <p:spPr>
          <a:xfrm>
            <a:off x="2819520" y="2209680"/>
            <a:ext cx="2209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2819520" y="3352680"/>
            <a:ext cx="2209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ich sentence correctly uses I or me?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18960" y="2421000"/>
            <a:ext cx="792468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50021"/>
              </a:buClr>
              <a:buSzPct val="2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fter Kathy and I finished, we put our books away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boyteach"/>
          <p:cNvPicPr/>
          <p:nvPr/>
        </p:nvPicPr>
        <p:blipFill>
          <a:blip r:embed="rId1"/>
          <a:stretch/>
        </p:blipFill>
        <p:spPr>
          <a:xfrm>
            <a:off x="3657600" y="4524480"/>
            <a:ext cx="275256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sentence correctly uses I or m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815328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ve the chair beside John and I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ve the chair beside John and m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chairstudents"/>
          <p:cNvPicPr/>
          <p:nvPr/>
        </p:nvPicPr>
        <p:blipFill>
          <a:blip r:embed="rId1"/>
          <a:stretch/>
        </p:blipFill>
        <p:spPr>
          <a:xfrm>
            <a:off x="4095720" y="3619440"/>
            <a:ext cx="2792520" cy="32385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5"/>
          <p:cNvSpPr/>
          <p:nvPr/>
        </p:nvSpPr>
        <p:spPr>
          <a:xfrm>
            <a:off x="6324480" y="2057400"/>
            <a:ext cx="2057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6324480" y="2819520"/>
            <a:ext cx="2057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ich sentence correctly uses I or me?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815328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50021"/>
              </a:buClr>
              <a:buSzPct val="2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ve the chair beside John and m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chairstudents"/>
          <p:cNvPicPr/>
          <p:nvPr/>
        </p:nvPicPr>
        <p:blipFill>
          <a:blip r:embed="rId1"/>
          <a:stretch/>
        </p:blipFill>
        <p:spPr>
          <a:xfrm>
            <a:off x="4095720" y="3619440"/>
            <a:ext cx="27925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I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like to go to church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church"/>
          <p:cNvPicPr/>
          <p:nvPr/>
        </p:nvPicPr>
        <p:blipFill>
          <a:blip r:embed="rId1"/>
          <a:stretch/>
        </p:blipFill>
        <p:spPr>
          <a:xfrm>
            <a:off x="4062240" y="2747880"/>
            <a:ext cx="244800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sentence correctly uses I or m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822960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m opened the door for Nana and I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m opened the door for Nana and m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6934320" y="2057400"/>
            <a:ext cx="2133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6934320" y="3429000"/>
            <a:ext cx="2133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10" descr="door-open"/>
          <p:cNvPicPr/>
          <p:nvPr/>
        </p:nvPicPr>
        <p:blipFill>
          <a:blip r:embed="rId1"/>
          <a:stretch/>
        </p:blipFill>
        <p:spPr>
          <a:xfrm>
            <a:off x="4038480" y="4191120"/>
            <a:ext cx="190512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ich sentence correctly uses I or me?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822960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50021"/>
              </a:buClr>
              <a:buSzPct val="2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m opened the door for Nana and m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7" descr="door-open"/>
          <p:cNvPicPr/>
          <p:nvPr/>
        </p:nvPicPr>
        <p:blipFill>
          <a:blip r:embed="rId1"/>
          <a:stretch/>
        </p:blipFill>
        <p:spPr>
          <a:xfrm>
            <a:off x="4038480" y="4191120"/>
            <a:ext cx="190512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member the </a:t>
            </a: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And Tes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using I or me and another person’s name, cover the word “</a:t>
            </a: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and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 other person’s name to find which pronoun would be us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magic"/>
          <p:cNvPicPr/>
          <p:nvPr/>
        </p:nvPicPr>
        <p:blipFill>
          <a:blip r:embed="rId1"/>
          <a:stretch/>
        </p:blipFill>
        <p:spPr>
          <a:xfrm>
            <a:off x="4724280" y="4191120"/>
            <a:ext cx="1860840" cy="2666880"/>
          </a:xfrm>
          <a:prstGeom prst="rect">
            <a:avLst/>
          </a:prstGeom>
          <a:ln w="0">
            <a:noFill/>
          </a:ln>
        </p:spPr>
      </p:pic>
      <p:sp>
        <p:nvSpPr>
          <p:cNvPr id="209" name="TextBox 2"/>
          <p:cNvSpPr/>
          <p:nvPr/>
        </p:nvSpPr>
        <p:spPr>
          <a:xfrm>
            <a:off x="376200" y="5970600"/>
            <a:ext cx="3886200" cy="398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"/>
              </a:rPr>
              <a:t>This PowerPoint was downloaded from </a:t>
            </a:r>
            <a:r>
              <a:rPr b="0" lang="en-NZ" sz="1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tabstart.com/directory/education/i-and-me-grammar-lesson-14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 gave the book to </a:t>
            </a: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m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books-carry"/>
          <p:cNvPicPr/>
          <p:nvPr/>
        </p:nvPicPr>
        <p:blipFill>
          <a:blip r:embed="rId1"/>
          <a:stretch/>
        </p:blipFill>
        <p:spPr>
          <a:xfrm>
            <a:off x="3429000" y="2590920"/>
            <a:ext cx="355284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93680" y="110484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f the pronoun appears in the subject of a sentence, use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I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52480" y="3429000"/>
            <a:ext cx="676296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I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s late for school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>
            <a:off x="1981080" y="4419720"/>
            <a:ext cx="53352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6"/>
          <p:cNvSpPr/>
          <p:nvPr/>
        </p:nvSpPr>
        <p:spPr>
          <a:xfrm>
            <a:off x="2819520" y="4419720"/>
            <a:ext cx="5029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10"/>
          <p:cNvGrpSpPr/>
          <p:nvPr/>
        </p:nvGrpSpPr>
        <p:grpSpPr>
          <a:xfrm>
            <a:off x="4724280" y="4648320"/>
            <a:ext cx="2514600" cy="1752120"/>
            <a:chOff x="4724280" y="4648320"/>
            <a:chExt cx="2514600" cy="1752120"/>
          </a:xfrm>
        </p:grpSpPr>
        <p:sp>
          <p:nvSpPr>
            <p:cNvPr id="98" name="AutoShape 7"/>
            <p:cNvSpPr/>
            <p:nvPr/>
          </p:nvSpPr>
          <p:spPr>
            <a:xfrm>
              <a:off x="4724280" y="4648320"/>
              <a:ext cx="457200" cy="1066680"/>
            </a:xfrm>
            <a:prstGeom prst="upArrow">
              <a:avLst>
                <a:gd name="adj1" fmla="val 50000"/>
                <a:gd name="adj2" fmla="val 5832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9"/>
            <p:cNvSpPr/>
            <p:nvPr/>
          </p:nvSpPr>
          <p:spPr>
            <a:xfrm>
              <a:off x="4800600" y="5638680"/>
              <a:ext cx="2438280" cy="7617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00"/>
                  </a:solidFill>
                  <a:latin typeface="Arial"/>
                </a:rPr>
                <a:t>Predicat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Group 11"/>
          <p:cNvGrpSpPr/>
          <p:nvPr/>
        </p:nvGrpSpPr>
        <p:grpSpPr>
          <a:xfrm>
            <a:off x="2209680" y="4876920"/>
            <a:ext cx="2514600" cy="1752120"/>
            <a:chOff x="2209680" y="4876920"/>
            <a:chExt cx="2514600" cy="1752120"/>
          </a:xfrm>
        </p:grpSpPr>
        <p:sp>
          <p:nvSpPr>
            <p:cNvPr id="101" name="AutoShape 12"/>
            <p:cNvSpPr/>
            <p:nvPr/>
          </p:nvSpPr>
          <p:spPr>
            <a:xfrm>
              <a:off x="2209680" y="4876920"/>
              <a:ext cx="457200" cy="1066680"/>
            </a:xfrm>
            <a:prstGeom prst="upArrow">
              <a:avLst>
                <a:gd name="adj1" fmla="val 50000"/>
                <a:gd name="adj2" fmla="val 5832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3"/>
            <p:cNvSpPr/>
            <p:nvPr/>
          </p:nvSpPr>
          <p:spPr>
            <a:xfrm>
              <a:off x="2286000" y="5867280"/>
              <a:ext cx="2438280" cy="7617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00"/>
                  </a:solidFill>
                  <a:latin typeface="Arial"/>
                </a:rPr>
                <a:t>Subjec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501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501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501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001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93680" y="110484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f the pronoun appears in the predicate part of the sentence, use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3429000"/>
            <a:ext cx="807732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erry went home with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1752480" y="4191120"/>
            <a:ext cx="137160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581280" y="4191120"/>
            <a:ext cx="5029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6"/>
          <p:cNvGrpSpPr/>
          <p:nvPr/>
        </p:nvGrpSpPr>
        <p:grpSpPr>
          <a:xfrm>
            <a:off x="5181480" y="4267080"/>
            <a:ext cx="2514600" cy="1752840"/>
            <a:chOff x="5181480" y="4267080"/>
            <a:chExt cx="2514600" cy="1752840"/>
          </a:xfrm>
        </p:grpSpPr>
        <p:sp>
          <p:nvSpPr>
            <p:cNvPr id="108" name="AutoShape 7"/>
            <p:cNvSpPr/>
            <p:nvPr/>
          </p:nvSpPr>
          <p:spPr>
            <a:xfrm>
              <a:off x="5181480" y="4267080"/>
              <a:ext cx="457200" cy="1067040"/>
            </a:xfrm>
            <a:prstGeom prst="upArrow">
              <a:avLst>
                <a:gd name="adj1" fmla="val 50000"/>
                <a:gd name="adj2" fmla="val 58346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8"/>
            <p:cNvSpPr/>
            <p:nvPr/>
          </p:nvSpPr>
          <p:spPr>
            <a:xfrm>
              <a:off x="5257800" y="5257800"/>
              <a:ext cx="2438280" cy="762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00"/>
                  </a:solidFill>
                  <a:latin typeface="Arial"/>
                </a:rPr>
                <a:t>Predicat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9"/>
          <p:cNvGrpSpPr/>
          <p:nvPr/>
        </p:nvGrpSpPr>
        <p:grpSpPr>
          <a:xfrm>
            <a:off x="1828800" y="4343400"/>
            <a:ext cx="2514600" cy="1752120"/>
            <a:chOff x="1828800" y="4343400"/>
            <a:chExt cx="2514600" cy="1752120"/>
          </a:xfrm>
        </p:grpSpPr>
        <p:sp>
          <p:nvSpPr>
            <p:cNvPr id="111" name="AutoShape 10"/>
            <p:cNvSpPr/>
            <p:nvPr/>
          </p:nvSpPr>
          <p:spPr>
            <a:xfrm>
              <a:off x="1828800" y="4343400"/>
              <a:ext cx="457200" cy="1066680"/>
            </a:xfrm>
            <a:prstGeom prst="upArrow">
              <a:avLst>
                <a:gd name="adj1" fmla="val 50000"/>
                <a:gd name="adj2" fmla="val 5832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11"/>
            <p:cNvSpPr/>
            <p:nvPr/>
          </p:nvSpPr>
          <p:spPr>
            <a:xfrm>
              <a:off x="1905120" y="5333760"/>
              <a:ext cx="2438280" cy="7617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00"/>
                  </a:solidFill>
                  <a:latin typeface="Arial"/>
                </a:rPr>
                <a:t>Subjec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1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501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501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1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sing I and Me With Another Nam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times we combine the pronouns I and me with another pers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etsy and 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ike to rea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V was too loud for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Rob and 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04760" y="26668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n using 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I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m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with another person, always put other person’s name first. 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Bobby and I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broke the blue lamp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lamp2"/>
          <p:cNvPicPr/>
          <p:nvPr/>
        </p:nvPicPr>
        <p:blipFill>
          <a:blip r:embed="rId1"/>
          <a:stretch/>
        </p:blipFill>
        <p:spPr>
          <a:xfrm>
            <a:off x="4038480" y="2590920"/>
            <a:ext cx="24415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16:39:22Z</dcterms:created>
  <dc:creator>Connie Campbell</dc:creator>
  <dc:description/>
  <dc:language>en-US</dc:language>
  <cp:lastModifiedBy>Emma Aitken</cp:lastModifiedBy>
  <dcterms:modified xsi:type="dcterms:W3CDTF">2012-03-17T23:01:20Z</dcterms:modified>
  <cp:revision>9</cp:revision>
  <dc:subject/>
  <dc:title>I or Me?</dc:title>
</cp:coreProperties>
</file>